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4EA9-3497-4241-A2FF-D780ED7DC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ual picture: Livelihood story provides added value to all other information being brought to the forum (Analytical t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ive scenarios can be run using FEG spreadsheets etc……..avoiding….. HINDCAST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D93-2A8C-4375-AF87-BB8E5E33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8BE-844D-4C7A-B955-34E86061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F679-2D2B-4409-95D1-F0C2055F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237-4790-48C9-8EB4-599CF615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E7E-8ECA-4918-84C7-7EBB326F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EBD1-EB32-49A8-BBAC-6E1529EE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88B-F944-4A53-B3D1-E84D978C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0592-E490-4CDB-A51A-13E8D2C2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912-35F8-43C5-858C-49E3F8EC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069-E0D2-4CED-9BB2-FB0C4C55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3A45-A4A4-45C0-8BE4-020CB551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7ADA-D55F-4DC9-80B3-341F5220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4750-B902-45A9-BB68-ED69F1D2B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38188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inental seminar on food security - Africa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8.45 session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ch 2007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ole of information in improving responses to food insecurity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lid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zz Sharp SC-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66880" y="-366588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lihood asset loss and recovery  (H, S, N, F,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38080" y="990720"/>
            <a:ext cx="7467480" cy="4723920"/>
            <a:chOff x="838080" y="990720"/>
            <a:chExt cx="7467480" cy="4723920"/>
          </a:xfrm>
        </p:grpSpPr>
        <p:grpSp>
          <p:nvGrpSpPr>
            <p:cNvPr id="52" name=""/>
            <p:cNvGrpSpPr/>
            <p:nvPr/>
          </p:nvGrpSpPr>
          <p:grpSpPr>
            <a:xfrm>
              <a:off x="2524320" y="1316160"/>
              <a:ext cx="4095000" cy="3909240"/>
              <a:chOff x="2524320" y="1316160"/>
              <a:chExt cx="4095000" cy="3909240"/>
            </a:xfrm>
          </p:grpSpPr>
          <p:sp>
            <p:nvSpPr>
              <p:cNvPr id="53" name=""/>
              <p:cNvSpPr/>
              <p:nvPr/>
            </p:nvSpPr>
            <p:spPr>
              <a:xfrm>
                <a:off x="4572000" y="3270960"/>
                <a:ext cx="2047320" cy="1954440"/>
              </a:xfrm>
              <a:custGeom>
                <a:avLst/>
                <a:gdLst/>
                <a:ahLst/>
                <a:rect l="l" t="t" r="r" b="b"/>
                <a:pathLst>
                  <a:path w="1440" h="1440">
                    <a:moveTo>
                      <a:pt x="0" y="0"/>
                    </a:moveTo>
                    <a:cubicBezTo>
                      <a:pt x="310" y="40"/>
                      <a:pt x="620" y="80"/>
                      <a:pt x="840" y="240"/>
                    </a:cubicBezTo>
                    <a:cubicBezTo>
                      <a:pt x="1060" y="400"/>
                      <a:pt x="1220" y="760"/>
                      <a:pt x="1320" y="960"/>
                    </a:cubicBezTo>
                    <a:cubicBezTo>
                      <a:pt x="1420" y="1160"/>
                      <a:pt x="1420" y="1360"/>
                      <a:pt x="1440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 flipV="1">
                <a:off x="2524320" y="1315800"/>
                <a:ext cx="2047680" cy="1954440"/>
              </a:xfrm>
              <a:custGeom>
                <a:avLst/>
                <a:gdLst/>
                <a:ahLst/>
                <a:rect l="l" t="t" r="r" b="b"/>
                <a:pathLst>
                  <a:path w="1440" h="1440">
                    <a:moveTo>
                      <a:pt x="0" y="0"/>
                    </a:moveTo>
                    <a:cubicBezTo>
                      <a:pt x="310" y="40"/>
                      <a:pt x="620" y="80"/>
                      <a:pt x="840" y="240"/>
                    </a:cubicBezTo>
                    <a:cubicBezTo>
                      <a:pt x="1060" y="400"/>
                      <a:pt x="1220" y="760"/>
                      <a:pt x="1320" y="960"/>
                    </a:cubicBezTo>
                    <a:cubicBezTo>
                      <a:pt x="1420" y="1160"/>
                      <a:pt x="1420" y="1360"/>
                      <a:pt x="1440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608280" y="2457000"/>
              <a:ext cx="1566000" cy="65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ov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78480" y="3271320"/>
              <a:ext cx="1565640" cy="65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990720"/>
              <a:ext cx="1565640" cy="65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37640" y="4900320"/>
              <a:ext cx="216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39920" y="5063040"/>
              <a:ext cx="1565640" cy="65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ves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inves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0" y="3434400"/>
              <a:ext cx="602280" cy="228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876920" y="60948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99840" y="5943600"/>
            <a:ext cx="29718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72680" y="59799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ro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6324480"/>
            <a:ext cx="27432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791320"/>
            <a:ext cx="18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s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21160" y="5904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rs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03520" y="6248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720" y="62485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38080" y="228600"/>
          <a:ext cx="8305920" cy="679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"/>
                    <a:ext cx="830592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7010280" y="1676520"/>
            <a:ext cx="152424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3048120"/>
            <a:ext cx="14479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41760" y="20574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ight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5080" y="34290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eft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320" y="266688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ST C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228600" y="457200"/>
            <a:ext cx="8915040" cy="6400800"/>
            <a:chOff x="228600" y="457200"/>
            <a:chExt cx="8915040" cy="6400800"/>
          </a:xfrm>
        </p:grpSpPr>
        <p:sp>
          <p:nvSpPr>
            <p:cNvPr id="79" name=""/>
            <p:cNvSpPr/>
            <p:nvPr/>
          </p:nvSpPr>
          <p:spPr>
            <a:xfrm>
              <a:off x="228600" y="5893920"/>
              <a:ext cx="88002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Nat Gov &amp; LGA s               &lt;NGOs&gt;                            Donors and LRRD                &lt;NGOs&gt;                    WFP, ICRC, MS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3800" y="457200"/>
              <a:ext cx="8799840" cy="320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usehold Vulnerabi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3800" y="777240"/>
              <a:ext cx="879984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   Moderate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                          High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3800" y="1097280"/>
              <a:ext cx="8799840" cy="320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usehold Decision-Mak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3800" y="1417680"/>
              <a:ext cx="879984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Maximizing Opportunities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            Minimizing Ris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8600" y="4296240"/>
              <a:ext cx="8800200" cy="320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nor Respon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8600" y="4616640"/>
              <a:ext cx="8800200" cy="3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Rehabilitation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Mitigation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Relie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8600" y="4936680"/>
              <a:ext cx="8800200" cy="3200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bjecti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600" y="5257080"/>
              <a:ext cx="88002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ustainable Systems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Protect Livelihoods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ave L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" y="5577120"/>
              <a:ext cx="8800200" cy="3200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ormation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6217560"/>
              <a:ext cx="8800200" cy="3200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dience Involv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600" y="6537960"/>
              <a:ext cx="88002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Broader analysis with users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…..Higher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         … Lower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Quantifying and Targeting Relie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04920" y="1752480"/>
            <a:ext cx="8533800" cy="2514600"/>
            <a:chOff x="304920" y="1752480"/>
            <a:chExt cx="8533800" cy="2514600"/>
          </a:xfrm>
        </p:grpSpPr>
        <p:grpSp>
          <p:nvGrpSpPr>
            <p:cNvPr id="92" name=""/>
            <p:cNvGrpSpPr/>
            <p:nvPr/>
          </p:nvGrpSpPr>
          <p:grpSpPr>
            <a:xfrm>
              <a:off x="2231640" y="1926000"/>
              <a:ext cx="4679640" cy="2080800"/>
              <a:chOff x="2231640" y="1926000"/>
              <a:chExt cx="4679640" cy="2080800"/>
            </a:xfrm>
          </p:grpSpPr>
          <p:sp>
            <p:nvSpPr>
              <p:cNvPr id="93" name=""/>
              <p:cNvSpPr/>
              <p:nvPr/>
            </p:nvSpPr>
            <p:spPr>
              <a:xfrm>
                <a:off x="4571640" y="2966400"/>
                <a:ext cx="2339640" cy="1040400"/>
              </a:xfrm>
              <a:custGeom>
                <a:avLst/>
                <a:gdLst/>
                <a:ahLst/>
                <a:rect l="l" t="t" r="r" b="b"/>
                <a:pathLst>
                  <a:path w="1440" h="1440">
                    <a:moveTo>
                      <a:pt x="0" y="0"/>
                    </a:moveTo>
                    <a:cubicBezTo>
                      <a:pt x="310" y="40"/>
                      <a:pt x="620" y="80"/>
                      <a:pt x="840" y="240"/>
                    </a:cubicBezTo>
                    <a:cubicBezTo>
                      <a:pt x="1060" y="400"/>
                      <a:pt x="1220" y="760"/>
                      <a:pt x="1320" y="960"/>
                    </a:cubicBezTo>
                    <a:cubicBezTo>
                      <a:pt x="1420" y="1160"/>
                      <a:pt x="1420" y="1360"/>
                      <a:pt x="1440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flipV="1">
                <a:off x="2231640" y="1926000"/>
                <a:ext cx="2340000" cy="1040400"/>
              </a:xfrm>
              <a:custGeom>
                <a:avLst/>
                <a:gdLst/>
                <a:ahLst/>
                <a:rect l="l" t="t" r="r" b="b"/>
                <a:pathLst>
                  <a:path w="1440" h="1440">
                    <a:moveTo>
                      <a:pt x="0" y="0"/>
                    </a:moveTo>
                    <a:cubicBezTo>
                      <a:pt x="310" y="40"/>
                      <a:pt x="620" y="80"/>
                      <a:pt x="840" y="240"/>
                    </a:cubicBezTo>
                    <a:cubicBezTo>
                      <a:pt x="1060" y="400"/>
                      <a:pt x="1220" y="760"/>
                      <a:pt x="1320" y="960"/>
                    </a:cubicBezTo>
                    <a:cubicBezTo>
                      <a:pt x="1420" y="1160"/>
                      <a:pt x="1420" y="1360"/>
                      <a:pt x="1440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3470400" y="2532960"/>
              <a:ext cx="1789560" cy="34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ov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36600" y="2966400"/>
              <a:ext cx="1789200" cy="34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920" y="1752480"/>
              <a:ext cx="1789200" cy="34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61200" y="3833640"/>
              <a:ext cx="247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49520" y="3920040"/>
              <a:ext cx="1789200" cy="34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ves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0" y="3053160"/>
              <a:ext cx="687960" cy="12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Reversibility  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ff3300"/>
                  </a:solidFill>
                  <a:latin typeface="Arial"/>
                </a:rPr>
                <a:t>Phas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3300"/>
                  </a:solidFill>
                  <a:latin typeface="Arial"/>
                </a:rPr>
                <a:t>1 or 2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 flipH="1" flipV="1">
            <a:off x="2209680" y="175212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380988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7800" y="2743200"/>
            <a:ext cx="2595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33399"/>
                </a:solidFill>
                <a:uFillTx/>
                <a:latin typeface="Arial"/>
              </a:rPr>
              <a:t>N.B. See Notes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ivelihood ca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7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B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ontextual picture…improving/worseni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The role of the Fo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0"/>
            <a:ext cx="8001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ole of information in improving responses to food secur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504960" y="6400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6400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440" y="3505320"/>
            <a:ext cx="331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Phases    …. 3 ,            ……..  4,      ………………     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29600" y="3809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610480" y="3733920"/>
            <a:ext cx="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240" y="3886200"/>
            <a:ext cx="42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IPC Strategic response strategies only…. post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580920" y="2057400"/>
            <a:ext cx="8384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2286000"/>
            <a:ext cx="9144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19160" y="209088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Which…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09880" y="201456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.Way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71280" y="391968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ias?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5195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724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71000" y="6324480"/>
            <a:ext cx="29070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and 2  Southern Suda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55840" y="6324480"/>
            <a:ext cx="22352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and 2 for Malawi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5943600"/>
            <a:ext cx="2743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 Phase    classific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02800" y="0"/>
            <a:ext cx="39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ed for the Livelihood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..Contextual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30592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84360" y="34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37000" y="493560"/>
            <a:ext cx="17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PC princip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9440" y="53352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EA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83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838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7432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CCSE/L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649116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OAL: Timely, cost effective and appropriate ac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152280"/>
            <a:ext cx="26668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vari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ment 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12193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2360" y="2725560"/>
            <a:ext cx="86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1 and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65120" y="1611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classification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1480" y="2666880"/>
            <a:ext cx="236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, water …see IPC man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97280" y="4724280"/>
            <a:ext cx="32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The need for the context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                                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772400" y="335268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781680" y="5334120"/>
            <a:ext cx="91440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59040" y="548640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…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and predi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4267080"/>
            <a:ext cx="27432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IPC&lt; &gt;H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Complimen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Comic Sans MS"/>
              </a:rPr>
              <a:t>principles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that pro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better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during analy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uda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tle evidence that the present response is linked to analysis of any livelihoods inform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ee driven response….as opposed to CDR/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ical imp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or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of media infl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r to access emergency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on for 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9:24:47Z</dcterms:created>
  <dc:creator>bsharp</dc:creator>
  <dc:description/>
  <dc:language>en-US</dc:language>
  <cp:lastModifiedBy>user</cp:lastModifiedBy>
  <dcterms:modified xsi:type="dcterms:W3CDTF">2007-03-15T15:36:08Z</dcterms:modified>
  <cp:revision>38</cp:revision>
  <dc:subject/>
  <dc:title>Slide 1</dc:title>
</cp:coreProperties>
</file>